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182533"/>
        <c:axId val="57950970"/>
      </c:barChart>
      <c:catAx>
        <c:axId val="911825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50970"/>
        <c:crosses val="autoZero"/>
        <c:auto val="1"/>
        <c:lblAlgn val="ctr"/>
        <c:lblOffset val="100"/>
        <c:noMultiLvlLbl val="0"/>
      </c:catAx>
      <c:valAx>
        <c:axId val="579509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825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0432-C830-4534-BF24-05587251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2635-CF93-4509-9CFD-261625B3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7396-9E3E-4D77-8D16-F69FD27D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3841-DB2C-42F9-9B69-7592ED1FD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32BC-C375-4376-9AB5-C4EB0598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A645-62F9-4EF1-A9AC-1390E918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9A51-885F-47C1-AE9A-0B7C5E9E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EAD1-5895-409B-9CD6-8A6FD781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FD16-5EDD-4217-A0A8-7F93334F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E8BF-41DA-44CE-8F69-0BE551B6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479F-0AE7-485B-AD28-A0D0BD0B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D57B-E5C9-4122-BEAB-E6881D94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48860-45E0-4122-BE76-EA729269B5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