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83099"/>
        <c:axId val="87089506"/>
      </c:barChart>
      <c:catAx>
        <c:axId val="28683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9506"/>
        <c:crosses val="autoZero"/>
        <c:auto val="1"/>
        <c:lblAlgn val="ctr"/>
        <c:lblOffset val="100"/>
        <c:noMultiLvlLbl val="0"/>
      </c:catAx>
      <c:valAx>
        <c:axId val="87089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3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B00-BA14-4EA3-B021-DAB297A8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57A-B992-4C4A-849A-A18BFC6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327-179D-455A-938C-CEB4ACBD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D0B-4B9D-4D8D-8536-3BBDFD2D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232-54C9-446A-86CE-59A421D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445-6660-4FF3-A4F2-73DC4E9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4F4-F2BE-4C07-B6A3-CF1B70E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31F-443E-40AD-9D33-417E7A8F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45F-32B7-4183-A4CD-E91FEAF7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1AC-5973-4294-B2C7-4D55D43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53C-C73A-4402-AEDA-576BF7A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A30-2BFB-41F2-916F-754FDA1B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A33E-A4D7-456F-B0D9-989A18F6E0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