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715051"/>
        <c:axId val="94925952"/>
      </c:barChart>
      <c:catAx>
        <c:axId val="417150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25952"/>
        <c:crosses val="autoZero"/>
        <c:auto val="1"/>
        <c:lblAlgn val="ctr"/>
        <c:lblOffset val="100"/>
        <c:noMultiLvlLbl val="0"/>
      </c:catAx>
      <c:valAx>
        <c:axId val="949259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7150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735B-E300-4CD5-87E7-D3D18EC84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ECC5-2178-413A-AC23-14E91D08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9D70-D359-4C4F-AF06-56F1FA9B3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995E-8185-4115-9E5C-6DC794943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1BF7-B8F7-4EDD-BF8C-4107DF6A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6F3A-1D49-483A-B039-895C1C1F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428F-EA6B-4B01-B97D-BDFB9B47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F6B8-45BA-4B8E-9706-351FB5E7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B41C-D120-44E1-89C0-54375711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944A-B5C6-4A54-93E6-883BBB40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CD2F-7083-4F6B-B707-CDBE7C05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0AE4-D976-478A-ACFE-81426753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CB40CD-A26B-4105-968F-40B46C23FF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