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94336"/>
        <c:axId val="10900493"/>
      </c:barChart>
      <c:catAx>
        <c:axId val="39694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00493"/>
        <c:crosses val="autoZero"/>
        <c:auto val="1"/>
        <c:lblAlgn val="ctr"/>
        <c:lblOffset val="100"/>
        <c:noMultiLvlLbl val="0"/>
      </c:catAx>
      <c:valAx>
        <c:axId val="10900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94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BA3-C988-43F9-838F-504887D3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30C-4653-40CF-BF8A-15956E3C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E5C-8918-4AC9-A3B8-94DB354B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C1A-05AE-43EF-B09B-907C8A48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A83-E10C-44B8-A51D-CA36229A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AFE-5C41-4F1F-8696-F77C8EB6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F7B-B81E-4042-9936-BA17587B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3DB-71C4-48E3-8B52-5229C199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B00-F924-4539-A6CD-14E888EF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015-81A5-431C-924E-DCBD7617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965-81C1-4E19-9630-0965D6A2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D55-81E0-4E30-9150-3DA38CC0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15D0A-6CBF-499B-A58C-B9C86A78FF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