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303991"/>
        <c:axId val="740103"/>
      </c:barChart>
      <c:catAx>
        <c:axId val="233039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103"/>
        <c:crosses val="autoZero"/>
        <c:auto val="1"/>
        <c:lblAlgn val="ctr"/>
        <c:lblOffset val="100"/>
        <c:noMultiLvlLbl val="0"/>
      </c:catAx>
      <c:valAx>
        <c:axId val="7401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039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5891-18D5-4A20-BB05-3BBDB87A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5653-FA9D-4D72-B9CD-CA6BAE40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3060-40B7-4598-BE69-EB808FCD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7D37-B147-4781-A322-85F50188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70D4-F65F-44F3-B1F8-A8C28A5A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A124-7727-451E-9E64-68E5B71E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9D58-BF8C-4386-9F52-F57C87AA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6B5D-61E6-46E5-BE6B-4B8E67C2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5CC0-B079-4C03-A040-2CE2C3F3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7FEE-2295-4709-B130-6CF272D8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56B4-8AFA-4C7E-A5A3-99DD4572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0CC3-43C1-45FB-B2D8-A062A8DF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665B1-B2C3-45DE-84F6-DC0CE2765E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