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1596"/>
        <c:axId val="23699895"/>
      </c:barChart>
      <c:catAx>
        <c:axId val="84201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9895"/>
        <c:crosses val="autoZero"/>
        <c:auto val="1"/>
        <c:lblAlgn val="ctr"/>
        <c:lblOffset val="100"/>
        <c:noMultiLvlLbl val="0"/>
      </c:catAx>
      <c:valAx>
        <c:axId val="23699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1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C82-5529-4575-8E5D-05D60C82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AA6-C236-4CA5-841B-D144736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5D7-3E73-456C-9833-905B0AE4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96B-5AF2-4C6F-97AB-7193E915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C87-EECB-493F-9A2F-B4495FC1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81C-2A75-4259-B634-23D5033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D65-B6F9-4005-9213-7A093404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F93-3F78-4F83-AC88-8D670C9F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B22-2C62-4DF1-B7FD-7AE6250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CC5-870A-4631-A781-746FA98D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26A-1247-4FE7-99C0-5324F43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32B-DC57-4025-B587-184B247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39DA6-441C-4749-8B35-20CA805B3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