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0383733"/>
        <c:axId val="46156238"/>
      </c:barChart>
      <c:catAx>
        <c:axId val="6038373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6156238"/>
        <c:crosses val="autoZero"/>
        <c:auto val="1"/>
        <c:lblAlgn val="ctr"/>
        <c:lblOffset val="100"/>
        <c:noMultiLvlLbl val="0"/>
      </c:catAx>
      <c:valAx>
        <c:axId val="4615623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038373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BA0E5-D357-436D-9EBF-AC08395CD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F32F4-0BDB-49C8-9119-8175F7D63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0336E-12C9-4E74-B0FD-F88B89EA0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5E17B-D002-46BF-B9EA-061A60613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B98AD-3AD5-4AF2-AF0E-CC38293FC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62A6F-E25F-4E52-9309-12C8C33EA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42353-1822-4E5E-A45D-A4892A3CB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818A6-939A-4C38-A940-5CBCCD55A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C7DCA-0AAC-4CF4-B90A-7416B64A9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AE643-4132-4B2F-98D5-CB03AD109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465A3-4AE7-4468-B43D-9739890F6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52715-0F26-4AC1-9C98-46E54B7AF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5DC9DE-620E-4562-8311-33F58D1C70A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