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91203"/>
        <c:axId val="43594913"/>
      </c:barChart>
      <c:catAx>
        <c:axId val="51091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94913"/>
        <c:crosses val="autoZero"/>
        <c:auto val="1"/>
        <c:lblAlgn val="ctr"/>
        <c:lblOffset val="100"/>
        <c:noMultiLvlLbl val="0"/>
      </c:catAx>
      <c:valAx>
        <c:axId val="43594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91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294-9328-437B-ABB6-415C88E9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E94-5A43-462B-A1FF-98DBD63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9CF-EB3B-443A-90DD-90325FD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5FA-6412-4CCA-9FC8-E4AEF721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794-68A8-4D6A-BC81-9F7D1E6C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235-C3B9-4C3D-8060-C1DB8FB7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0DB-CBF7-45D7-8C77-FAF1A104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F55-8079-4061-BBEE-051E2366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F07-0FA2-4152-9B5E-09F443BB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83C-076F-4F39-B714-6F63189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080-CF87-4FC9-9F31-832BD412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844-F05F-4874-ACF4-0B9FDD0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67F02-861E-4D66-868D-A1AC8CE0B4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