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32925"/>
        <c:axId val="72596971"/>
      </c:barChart>
      <c:catAx>
        <c:axId val="66232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96971"/>
        <c:crosses val="autoZero"/>
        <c:auto val="1"/>
        <c:lblAlgn val="ctr"/>
        <c:lblOffset val="100"/>
        <c:noMultiLvlLbl val="0"/>
      </c:catAx>
      <c:valAx>
        <c:axId val="72596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2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3D3-4D38-43F8-840F-9F4AEF5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9FD-DAA3-466E-8200-1F139C8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D53-1C80-43A2-A397-0E80EA63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580-41E7-40A5-845E-DA21B43E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271-0009-48FA-A0AB-5FE9301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E97-975D-410A-8C56-F871A13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BDD-BCDD-49F9-842D-8CCE3D00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114-F259-412A-91A1-DF7D91E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F77-3B19-4886-87DB-15142B87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9FC-F359-4D7E-AC19-5C2203A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8EC-FD3F-49F4-AE18-23D42B2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599-4C31-483F-AEF0-CB4FC42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7FB3B-68B4-433C-B3C8-1E2214C931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