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50301"/>
        <c:axId val="15737033"/>
      </c:barChart>
      <c:catAx>
        <c:axId val="32050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37033"/>
        <c:crosses val="autoZero"/>
        <c:auto val="1"/>
        <c:lblAlgn val="ctr"/>
        <c:lblOffset val="100"/>
        <c:noMultiLvlLbl val="0"/>
      </c:catAx>
      <c:valAx>
        <c:axId val="157370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50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843-2940-4C6A-A484-CB40563A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64A-C52D-4485-8B22-B51ABAF9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6F4A-2025-4D50-A973-E8266D0A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B4B3-12D4-4E3E-ADB7-29B7DF40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816-64AD-4B71-9895-917C2EDB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CDA-863B-416E-B276-3DDA28F0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4C5-03FA-4AE6-ADB6-96F799E4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C71E-719C-4FF7-BA55-4EB300B8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FFD0-873D-457D-A4F6-EEB30E6B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07D-F71E-4C96-8AA1-72900234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39E-3347-4914-8DB3-5D91F3B5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17B-4578-4BDA-A60F-2622C306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A573B-004E-4D38-BB58-D902CD6323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