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589140"/>
        <c:axId val="23598285"/>
      </c:barChart>
      <c:catAx>
        <c:axId val="155891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98285"/>
        <c:crosses val="autoZero"/>
        <c:auto val="1"/>
        <c:lblAlgn val="ctr"/>
        <c:lblOffset val="100"/>
        <c:noMultiLvlLbl val="0"/>
      </c:catAx>
      <c:valAx>
        <c:axId val="235982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891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3835-743F-429D-84C3-D4D31360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0C26-097F-490D-8A73-A4A52D4F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F3DF-0F51-4913-8241-96EA781C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8531-E977-4CE8-B268-F9F26DA9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D202-488C-466B-92AD-F9581392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C9C8-4A54-4DA3-A49B-5E044835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2D4D-7F47-464A-A84E-357C22C4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0292-6206-43AE-BABE-FBE14377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7D35-553A-485A-8725-26A1141A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580B-C985-441A-8375-9CAFE0E6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F0A8-C06B-4F2E-B8D1-2E63F9EC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4DF4-72C6-4840-958F-49A54897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1FD15-D57C-43AD-A0DE-2027A682EC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