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61294"/>
        <c:axId val="88080011"/>
      </c:barChart>
      <c:catAx>
        <c:axId val="42661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80011"/>
        <c:crosses val="autoZero"/>
        <c:auto val="1"/>
        <c:lblAlgn val="ctr"/>
        <c:lblOffset val="100"/>
        <c:noMultiLvlLbl val="0"/>
      </c:catAx>
      <c:valAx>
        <c:axId val="88080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61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645-FC6A-4D13-9600-27494604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AFE-DDFD-41A5-9412-DC960352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9AD-D2F7-469A-8BAF-D8618F55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CA3-E14A-439D-9D1E-1C1EBC68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807-F41F-4FD9-A412-4AD92BEB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D44-B0F1-4871-A0FD-C7874384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305-2E19-41EA-A20F-D3663B91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D9A-AE20-4F30-86D5-54DE9457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F24-8C3A-49AA-9BAC-EA183F21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367-C905-41D1-B140-E0E98DB6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98D-ED52-4AD0-8404-3BCB0547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5A9-04E8-4A05-B779-0C7B8E98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C8858-6324-40D6-AF56-17F03E86F1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