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22846"/>
        <c:axId val="76288058"/>
      </c:barChart>
      <c:catAx>
        <c:axId val="42622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88058"/>
        <c:crosses val="autoZero"/>
        <c:auto val="1"/>
        <c:lblAlgn val="ctr"/>
        <c:lblOffset val="100"/>
        <c:noMultiLvlLbl val="0"/>
      </c:catAx>
      <c:valAx>
        <c:axId val="76288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22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AE2-EA9A-48DC-A3B9-1AB4369B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063-98AF-42DA-916A-5DDEC6F3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6A6-B926-44A4-822D-35A2C589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8EE-80AA-4661-AD8E-C6D90CE4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9B0-35A2-46D3-912C-747E501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E66-BDD3-435F-8709-6FF4333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9D3-D5EE-4AC3-827D-2D748AF0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49C-DF7A-45B8-92A6-7BD2BF5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CAD-447F-4BD9-833C-A0845BD6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678-7883-4FA7-9723-F006C3C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287-CFAE-4CD8-AF75-5B82203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EB6-A22D-47ED-B434-13AA9F1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B50BE-D235-4415-847F-13D68EF9A9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