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1678"/>
        <c:axId val="90897851"/>
      </c:barChart>
      <c:catAx>
        <c:axId val="9971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97851"/>
        <c:crosses val="autoZero"/>
        <c:auto val="1"/>
        <c:lblAlgn val="ctr"/>
        <c:lblOffset val="100"/>
        <c:noMultiLvlLbl val="0"/>
      </c:catAx>
      <c:valAx>
        <c:axId val="90897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1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A0D-4308-491E-88AE-02F87350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0F1-6E8D-4FBF-A30A-EAA21F1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751-7AF1-4A7D-9DDA-87E25043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687-AAE8-432E-9C97-2692B6C0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829-102F-4084-8A5B-95DAE837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534-F223-4324-969D-EEEC265E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FDC-808C-4BCC-8AC8-3F78987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1AC-5D83-4AD7-9F75-2513629F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379-29F7-4CD7-90FE-8067335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F1B-CE4F-45C2-8968-60D370A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82D-83F9-448D-B0F6-C042746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13E-77D7-494B-82DC-14ED2FD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D6F4C-3F07-4C08-AF3D-B7D6A9FEE1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