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73920"/>
        <c:axId val="39668309"/>
      </c:barChart>
      <c:catAx>
        <c:axId val="88573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68309"/>
        <c:crosses val="autoZero"/>
        <c:auto val="1"/>
        <c:lblAlgn val="ctr"/>
        <c:lblOffset val="100"/>
        <c:noMultiLvlLbl val="0"/>
      </c:catAx>
      <c:valAx>
        <c:axId val="39668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73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D76-A18D-4304-AD70-20403AC8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4D4-E5C6-4BC4-95E7-E848DAAF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557-A260-4AAD-B23C-760E4696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4D3-45B8-4A57-AB02-34E272AF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B67-8B7C-4563-89BE-A4CD622B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098-7EE9-4A0B-8D3F-A688AA4E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036-6805-41E5-AAC5-EBDC3887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0D2-A7C8-4C37-9523-E6806F76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91D-C27D-428E-A681-2D62124D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A58-1D8A-4F1D-A3A9-077E1B1D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3E7-998A-4B5C-BED3-4AA3DF1D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D53-9A15-4B78-9767-CFF6DBBF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E3169-A47E-49C3-BCCD-EBE5017514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