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89627"/>
        <c:axId val="75607776"/>
      </c:barChart>
      <c:catAx>
        <c:axId val="72889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07776"/>
        <c:crosses val="autoZero"/>
        <c:auto val="1"/>
        <c:lblAlgn val="ctr"/>
        <c:lblOffset val="100"/>
        <c:noMultiLvlLbl val="0"/>
      </c:catAx>
      <c:valAx>
        <c:axId val="75607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89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B69-5B8A-4D3B-AD0C-A9C34410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617-06E5-4F02-A2CC-C0D26ED7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A66-1C16-42CD-98AE-2CED2C48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44A-2BEA-4D90-9FBF-7EB2DB87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EE7-CAF3-49A5-A2E1-D8E976E3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B24-3CD2-4533-8D79-E9E45BB1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E54-ECA3-48F5-9699-761415E4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721-B440-4348-B2F6-1E4FD2CE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15B-46FC-4059-B099-00A5C48D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ED3-09C0-472D-A653-A74295ED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224-A758-46D2-9CEF-4BB7F761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76B-2464-4919-A364-C5B2A40B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FB3BB-4EF0-4C5A-AD6A-726D3DDED8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