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06784"/>
        <c:axId val="96436600"/>
      </c:barChart>
      <c:catAx>
        <c:axId val="42806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36600"/>
        <c:crosses val="autoZero"/>
        <c:auto val="1"/>
        <c:lblAlgn val="ctr"/>
        <c:lblOffset val="100"/>
        <c:noMultiLvlLbl val="0"/>
      </c:catAx>
      <c:valAx>
        <c:axId val="96436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6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B04-CAC6-4B88-829B-8591DCB3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65B-F9E3-447A-A82A-2ACBA043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737-6898-4AC4-8DAC-EC9F9405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872-5258-4308-82FA-7B727793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3A5-410D-48CF-B4D3-CD68FC5F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7A4-C263-4F49-B59A-B14E191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868-DB9A-4517-B2BC-44A4BE3E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8EF-104A-4A1D-8D14-B493C86A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B02-4B71-4AE0-BD1A-BBEFB8AE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DC3-CA77-4A26-95F9-CCEF2748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62B-DA7D-4BC3-B495-F05763E9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43F-7B21-4D60-8B73-CF2766B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1C297-6E18-4DB2-8E82-CA0C38A11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