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44433"/>
        <c:axId val="28917464"/>
      </c:barChart>
      <c:catAx>
        <c:axId val="93744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17464"/>
        <c:crosses val="autoZero"/>
        <c:auto val="1"/>
        <c:lblAlgn val="ctr"/>
        <c:lblOffset val="100"/>
        <c:noMultiLvlLbl val="0"/>
      </c:catAx>
      <c:valAx>
        <c:axId val="28917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4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31A-7990-4DB4-94F3-17A5BD4F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ADE-9E40-4599-8AFF-57B1E190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D59-BF21-4E14-AF70-49B66A30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D95-4261-4748-825D-1BDD97A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154-4FC6-4C3D-AD24-0D9D9011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2A0-4DBA-4F6B-A3C4-4225027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4EC-81FB-4CBA-AAFF-34F00A0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CF2-5472-4CFF-94F7-F7208B0F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36F-414F-496C-AAB8-720E24AB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2D5-E2D1-4747-B3D8-FFE1BD8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77D-8891-463A-ACEC-51DE979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ED5-3793-4057-B8E4-84DA5FC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3D2BB-7D10-49FD-9CCA-C40355105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