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11561"/>
        <c:axId val="99977433"/>
      </c:barChart>
      <c:catAx>
        <c:axId val="12811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77433"/>
        <c:crosses val="autoZero"/>
        <c:auto val="1"/>
        <c:lblAlgn val="ctr"/>
        <c:lblOffset val="100"/>
        <c:noMultiLvlLbl val="0"/>
      </c:catAx>
      <c:valAx>
        <c:axId val="99977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11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ACE-3C48-4797-BEF2-A4CC869C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E5F-835C-43CC-A3B4-F73C4DB9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181-A6D7-4811-A527-588BE493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434-8FA8-4182-BC8D-DBA554A6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A3E-0316-4B4F-941C-A73162F7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800-E278-47DC-B373-1AA69FA1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032-B55E-4DB6-B9A4-CB5F2B6A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474-2D73-481B-A159-922F3730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218-B63A-4290-BEA9-426CCC1E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588-5BC9-4F40-88B1-B4CAF8A4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F9F-FF3D-4C51-A37C-AFE2F690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A61-DD40-435B-9A73-4C1D15A3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34D58-3FAA-496E-8196-1C73FC0F71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