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055312"/>
        <c:axId val="98868002"/>
      </c:barChart>
      <c:catAx>
        <c:axId val="890553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868002"/>
        <c:crosses val="autoZero"/>
        <c:auto val="1"/>
        <c:lblAlgn val="ctr"/>
        <c:lblOffset val="100"/>
        <c:noMultiLvlLbl val="0"/>
      </c:catAx>
      <c:valAx>
        <c:axId val="988680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0553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420C-2C1D-42F0-8319-6E73E2EA9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7C18-87B4-4F19-97D9-01E77768F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7429-BAFD-494B-868F-718327F0F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1CDD-5D40-4253-AB05-10C067547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BDCA-442F-48A6-B9AB-1240E72AA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454E-43D0-48B8-AE4E-AEC8679D3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3C35-4DBC-44BE-B69C-A500BCE61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B7FC-6DC8-4F39-A436-D96BD417D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4A61-7362-4344-B952-366E8C58D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0D6D-3509-497E-836D-5436B238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0187-9BA3-455F-9F9E-26BF3E4D8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6273-DDD2-4E44-A65E-464FDAFC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F4A3F5-5259-4F89-8AE9-8C57CCD40BD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