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58850"/>
        <c:axId val="83331367"/>
      </c:barChart>
      <c:catAx>
        <c:axId val="37858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31367"/>
        <c:crosses val="autoZero"/>
        <c:auto val="1"/>
        <c:lblAlgn val="ctr"/>
        <c:lblOffset val="100"/>
        <c:noMultiLvlLbl val="0"/>
      </c:catAx>
      <c:valAx>
        <c:axId val="83331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58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760-364D-4C18-9CBE-D5EABAA2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323-326F-43B1-8A13-BAC4E636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FB1-1CDC-49A6-B0E8-87215F31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BA7-F270-4616-BDB4-169E9EEE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3F6-838A-4950-B7DB-F8D48261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561-201D-4313-90B3-E64EDA4D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4F1-3CE8-448E-965E-D3807D17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20B-E96F-4202-82E8-CD5FCAE6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668-FA26-4B7C-BFC5-19024DAD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FCDD-61AD-46A1-849B-17AA3F1B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65B-8DD9-404F-95D2-35A5584A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FB3-469D-4B70-83EA-3555B524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BA1F7-9D2F-43C6-870E-7DBCD04FCA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