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10574"/>
        <c:axId val="34872665"/>
      </c:barChart>
      <c:catAx>
        <c:axId val="41110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2665"/>
        <c:crosses val="autoZero"/>
        <c:auto val="1"/>
        <c:lblAlgn val="ctr"/>
        <c:lblOffset val="100"/>
        <c:noMultiLvlLbl val="0"/>
      </c:catAx>
      <c:valAx>
        <c:axId val="34872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10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33B-C2E6-4022-86D9-7234A10D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72F-8346-4AA0-9371-EC11009D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358-F9CA-42BB-8D90-B19E500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CEE-0DD7-44B2-9EA0-1F5929B6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DDF-81E2-4861-8CB0-8FC4F18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CA6-1A6A-4B69-B2ED-029C793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484-9884-400C-97BE-7042101E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E88-A4B5-437C-ABF6-D020C2F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7AB-6D68-432E-A2B4-F768782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386-1519-47FB-8941-E501695A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52E-0DF3-47FB-BB73-BB5EC7C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D88-0204-4220-AF37-05F3C43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73CEB-1B3A-475B-ABDD-540451500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