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64928"/>
        <c:axId val="23786414"/>
      </c:barChart>
      <c:catAx>
        <c:axId val="29964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86414"/>
        <c:crosses val="autoZero"/>
        <c:auto val="1"/>
        <c:lblAlgn val="ctr"/>
        <c:lblOffset val="100"/>
        <c:noMultiLvlLbl val="0"/>
      </c:catAx>
      <c:valAx>
        <c:axId val="237864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64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9DF-2481-476E-8EE8-DE02C3E3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6FD4-9B41-4BA9-9928-5428288E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485-B5E5-4940-9107-8F07B940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C83-0527-4CB9-A8D2-CF25B49A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C0D2-8BA0-47A6-9BB0-81C8B34D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86D-D21D-40AF-9BCF-DEFC0E7B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BD33-A565-4832-A534-237F52AD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07D-5FC8-4FAC-83E7-A6503D70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CB0-629A-4156-8425-89D2CFDD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783-1DA4-4B7F-A6B6-B280B38F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759-1611-40A6-9CF2-33BEB187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4A1-384C-46B4-898C-491D230A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C7866-2E52-4D63-9764-FA55360A0C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