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13352"/>
        <c:axId val="80158131"/>
      </c:barChart>
      <c:catAx>
        <c:axId val="613133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58131"/>
        <c:crosses val="autoZero"/>
        <c:auto val="1"/>
        <c:lblAlgn val="ctr"/>
        <c:lblOffset val="100"/>
        <c:noMultiLvlLbl val="0"/>
      </c:catAx>
      <c:valAx>
        <c:axId val="80158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133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52D-501D-47EA-9B3F-0BB62159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7FA-BCDA-4517-87B2-9F4A514A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FBD-9886-46F9-B8F1-D5143FC0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094-3007-4D3C-8FE8-DFE3B05D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69E-7B48-4BB1-AC7A-01B51FBB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FCCC-9514-4355-8F80-9E460FBD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ECAA-8686-43B7-923F-F5104D91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3265-5B07-40E6-A1E5-E2461784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4123-F730-4FA7-A4C3-CD59FE02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185-6B94-4332-8BEE-B5052E43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CE7-87F8-4BFD-BFD2-D8966F96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9989-A086-4820-B070-9235CBB9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BB7DA-F8B2-461E-BBA0-9AD96613B5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