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09525"/>
        <c:axId val="29697578"/>
      </c:barChart>
      <c:catAx>
        <c:axId val="47209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97578"/>
        <c:crosses val="autoZero"/>
        <c:auto val="1"/>
        <c:lblAlgn val="ctr"/>
        <c:lblOffset val="100"/>
        <c:noMultiLvlLbl val="0"/>
      </c:catAx>
      <c:valAx>
        <c:axId val="29697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09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6B8-A346-4911-B34B-12042162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E29-3469-4DB2-BF14-549141DC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0BDC-4CE6-4D8D-BE0D-8DD52116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46F-587F-4DA7-BEAA-E3265285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93E-35BD-4C81-AAA3-848AE324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20F-B88B-4F98-8A7B-62623386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9D1-2851-4C0F-99C9-DCE3E6BD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B7E-611E-455C-A2B9-8C6D2D20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742-3879-458C-8F1C-13B62EC6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A99-96B9-4D41-9355-E0BDDEEB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44D-ACA1-4228-92C2-D4CA9846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5FF-97A8-4F6D-80A0-B8EB2E92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93123-505D-4A0E-902D-A0C9E7F7EC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