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4960"/>
        <c:axId val="38215547"/>
      </c:barChart>
      <c:catAx>
        <c:axId val="13749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15547"/>
        <c:crosses val="autoZero"/>
        <c:auto val="1"/>
        <c:lblAlgn val="ctr"/>
        <c:lblOffset val="100"/>
        <c:noMultiLvlLbl val="0"/>
      </c:catAx>
      <c:valAx>
        <c:axId val="38215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49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DB5-E29B-4BA7-B722-EFD751761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E01-3CC2-4B4F-98FF-A1605E4F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F84E-7D73-401B-9FF8-647B4F3E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377-CC36-4E05-9597-BEB3D08F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F63-DD34-4F9A-89E3-476018FE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A04-8DF5-48F2-90A4-3B39DDF7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9C42-5D46-45AC-8233-26336AF6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FB7-EB3A-45DF-8722-F3E7EB57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152-F4BD-4E9A-BD7B-9B6AAE0F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E11-D6DE-4D31-BF83-D2B8FD31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C990-5850-4C87-B1E4-E3BB1438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A7F-1A0B-4CC9-A300-46101F7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E7617-C0F5-43F0-879C-EADE939632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