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987968"/>
        <c:axId val="35069080"/>
      </c:barChart>
      <c:catAx>
        <c:axId val="899879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69080"/>
        <c:crosses val="autoZero"/>
        <c:auto val="1"/>
        <c:lblAlgn val="ctr"/>
        <c:lblOffset val="100"/>
        <c:noMultiLvlLbl val="0"/>
      </c:catAx>
      <c:valAx>
        <c:axId val="350690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879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88D-BBCE-4D48-ABED-901DBB72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83E-34FC-455A-902A-070DB63C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760-E05D-403E-9063-B3DE1E77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10A-06A0-48C8-BF5F-BE971820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FA1B-C645-48A6-996E-870017E4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23B-7A98-41C2-B03B-C7943E70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16C-D47D-4939-9F1F-0E467AA7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B04-515F-4EC4-A28D-7E7FD13B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E3C8-86C8-4972-BE22-A393DB44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B44-CEA2-4A67-A2A4-9CEEA2F7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9ABF-7A27-4548-9098-852EEAC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3062-6776-40DB-A497-46C3B96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3668-5CA5-42D0-8356-E96031ECF7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