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06333"/>
        <c:axId val="472180"/>
      </c:barChart>
      <c:catAx>
        <c:axId val="94006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80"/>
        <c:crosses val="autoZero"/>
        <c:auto val="1"/>
        <c:lblAlgn val="ctr"/>
        <c:lblOffset val="100"/>
        <c:noMultiLvlLbl val="0"/>
      </c:catAx>
      <c:valAx>
        <c:axId val="47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6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081-B529-4FCC-B785-1EBABB1A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F05-2D4D-4600-8E7D-36C1D2D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89B-2EF9-4261-96D2-A1DA9F6F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43D-8D77-4DDF-9C1A-B86EAF3A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A6B-2B50-40D4-8467-80FA85B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FA3-D1E6-4939-874D-9B866A8D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FA9-ED6C-4B80-A0A4-8ABEC62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149-951E-4912-A4E9-5F2F1BD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A38-9F74-4BE2-B881-B2772EB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346-A6C5-478F-AD5E-C44D6E7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519-FE48-4277-9546-F11F213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BFD-3107-43A4-8230-8FDF05A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80BF9-19AC-4C4E-99AD-C5DF7FE03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