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989372"/>
        <c:axId val="60607974"/>
      </c:barChart>
      <c:catAx>
        <c:axId val="949893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607974"/>
        <c:crosses val="autoZero"/>
        <c:auto val="1"/>
        <c:lblAlgn val="ctr"/>
        <c:lblOffset val="100"/>
        <c:noMultiLvlLbl val="0"/>
      </c:catAx>
      <c:valAx>
        <c:axId val="606079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9893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4E9C-E999-4122-B515-EF9C8BA23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F3DE-3AB5-4166-8F0C-38D240C6A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9ABB-1DC0-4E74-A0C4-F9CA9A867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B61D-C1B0-49B2-8193-A5A924767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ABF1-1418-4BD8-ADCE-B5A013FF2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D522-28D2-48AA-905C-B4E192F39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DC96-61DB-4087-9705-6317ED642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DD3C-E6D8-402D-B674-D4D80E8EA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C453-F9E3-4CB6-8B0F-4B01C45D5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6F4F-A31D-410B-A481-35F2096A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C948-50D5-4BAA-BC26-8507115D7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2F8E-A4B0-4683-8A91-3838AAD5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401A72-D605-4305-84EB-AE56F942F70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