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68654"/>
        <c:axId val="58303230"/>
      </c:barChart>
      <c:catAx>
        <c:axId val="18668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03230"/>
        <c:crosses val="autoZero"/>
        <c:auto val="1"/>
        <c:lblAlgn val="ctr"/>
        <c:lblOffset val="100"/>
        <c:noMultiLvlLbl val="0"/>
      </c:catAx>
      <c:valAx>
        <c:axId val="58303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68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B24-6F01-4C5D-8917-12547FD4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AA9-6C8A-4AAB-932D-EE2955DB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9AC-10EB-48B9-8C54-F3B6389D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2E2-BA0E-41EF-B33E-821C46E3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DA5-582B-4756-82B9-A618F363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42C-2DDE-456E-936C-17DB9C70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084-1E60-4AE8-AE2E-760BD8AB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6A0-DB64-4C42-9AAD-B8971398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B3A-CAF9-4821-B0EE-353F680C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A04-0C3D-4AF9-9A0E-60AEFEB1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2C9-0EB9-4925-AD9F-10C80961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9DC-E8D1-4BB4-8115-D1D93A3E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2CF7E-38AB-4AFB-83B6-E52679B7DA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