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128054"/>
        <c:axId val="20450068"/>
      </c:barChart>
      <c:catAx>
        <c:axId val="311280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50068"/>
        <c:crosses val="autoZero"/>
        <c:auto val="1"/>
        <c:lblAlgn val="ctr"/>
        <c:lblOffset val="100"/>
        <c:noMultiLvlLbl val="0"/>
      </c:catAx>
      <c:valAx>
        <c:axId val="204500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280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080D-9170-43E4-AEB2-2B937DB3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AD23-5701-49A4-86F3-2D41B2FD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B780-26BE-4CF3-BD3C-144FA9BB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29A3-2EEE-4C5B-86D9-D71C7385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56AD-BD09-4211-965C-CAEB002D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43B3-8795-4590-9F6E-955CB48B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C94E-E771-4478-9054-C75583ED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A39E-20BB-4BB8-BF88-3675A570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30B3-7D5B-41D2-8A58-D6751CA2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9B21-F84F-4B1B-844C-AA6D53D5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818B-7DC8-4DB1-B9B2-1202AB19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33A0-CB71-4887-AA02-E01853DA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5F354-84FE-4872-8774-C9CA2A90FB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