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01976"/>
        <c:axId val="65385433"/>
      </c:barChart>
      <c:catAx>
        <c:axId val="46901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85433"/>
        <c:crosses val="autoZero"/>
        <c:auto val="1"/>
        <c:lblAlgn val="ctr"/>
        <c:lblOffset val="100"/>
        <c:noMultiLvlLbl val="0"/>
      </c:catAx>
      <c:valAx>
        <c:axId val="65385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01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174-7C93-4DF0-85C6-E4BEBD7D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341-7B50-45DC-84CF-F719BC6D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90C-E006-492F-9406-56024ECE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53F-4836-4E9C-B7A8-CD795E7B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AA2-644A-409E-83E7-4A611686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987-B865-444F-A1A3-451E9D90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91E-EDA0-45F4-B8BC-EF6DE67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77A-C603-46F6-9C18-685FE15C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14F-9CCA-4D5C-A3F7-52B97AC3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75C-F3C6-4C18-A3C1-7EDD6869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5E4-56A5-4BEE-810D-E066260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F4A-614D-48D0-A8FF-71AF7E56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6BEB3-BA19-4844-8254-61A74F3592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