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77635"/>
        <c:axId val="48722742"/>
      </c:barChart>
      <c:catAx>
        <c:axId val="611776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22742"/>
        <c:crosses val="autoZero"/>
        <c:auto val="1"/>
        <c:lblAlgn val="ctr"/>
        <c:lblOffset val="100"/>
        <c:noMultiLvlLbl val="0"/>
      </c:catAx>
      <c:valAx>
        <c:axId val="48722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776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9150-797B-47CE-BDB5-61F75861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DC1-A310-4494-AEDB-26DEDACD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3E7-24AE-47AA-AF27-1AEA6694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A14-BF9A-40AD-90E0-0E88DAEA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B05-8F3F-4240-9233-30B8814E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274-5754-4314-9947-C60BBD52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B306-1322-40DE-81BA-6E62EBA5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F687-F935-44E3-86E5-D53522C9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F4A-6340-46A9-B396-833128B0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34AB-0B48-4372-9954-C3A4E2CA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ED0-8579-4C1A-B063-9D103BAB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8EC-6686-43CB-8182-EFCB0097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B682B-97A7-4870-8C8B-A6A49764E8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