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92603"/>
        <c:axId val="14583922"/>
      </c:barChart>
      <c:catAx>
        <c:axId val="63092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83922"/>
        <c:crosses val="autoZero"/>
        <c:auto val="1"/>
        <c:lblAlgn val="ctr"/>
        <c:lblOffset val="100"/>
        <c:noMultiLvlLbl val="0"/>
      </c:catAx>
      <c:valAx>
        <c:axId val="14583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92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226-1E59-47F6-89D9-ADF4B923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48B-D3ED-4588-965F-C69BD247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6D3-020D-473D-BCFD-35562916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B4D-3887-4628-AF4A-2CF688C9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7F9-6B84-4C35-A105-E9869512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B2C-1B57-45A4-8FE2-29B0B1EA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1C7-C2E5-425B-BD5C-25A341B4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FEF-3E0F-461B-AB92-3C45AA66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2B6-0008-4D53-B4D3-47E841F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CA6-5E0C-4EE9-A495-9171338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A86-C9D2-4B51-9BA7-F0B27166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53E-F0C0-40C2-8759-4A4D880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E0D70-8CB0-4E76-B4D5-DA94026D09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