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15787"/>
        <c:axId val="8421821"/>
      </c:barChart>
      <c:catAx>
        <c:axId val="95315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821"/>
        <c:crosses val="autoZero"/>
        <c:auto val="1"/>
        <c:lblAlgn val="ctr"/>
        <c:lblOffset val="100"/>
        <c:noMultiLvlLbl val="0"/>
      </c:catAx>
      <c:valAx>
        <c:axId val="8421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15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718-FB02-4F24-81CA-8871F401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F47-DE2F-493B-ACBE-97AA836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557-49C6-4B01-BCC7-2EAD4CCE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25D-F8EF-46B9-BC89-0C437AA8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954-6BD7-4009-8893-AC158B8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BC3-2E4C-47CF-A97D-87E94D1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AF9-E8BF-408C-837F-F33D8AA6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6A8-19F7-476A-BCAD-7535CD3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F2F-B5EB-408B-91FA-8EB8102D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7BA-221B-4A80-AE7E-38180C8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9C1-81CE-4761-9BEC-5B31AA4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058-6F94-49D2-BB1C-EB4B7407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057C-7FBE-461F-BCE6-02F221E0E8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