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26589"/>
        <c:axId val="9138936"/>
      </c:barChart>
      <c:catAx>
        <c:axId val="56926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8936"/>
        <c:crosses val="autoZero"/>
        <c:auto val="1"/>
        <c:lblAlgn val="ctr"/>
        <c:lblOffset val="100"/>
        <c:noMultiLvlLbl val="0"/>
      </c:catAx>
      <c:valAx>
        <c:axId val="9138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26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03C-0153-4959-BC43-C7CDEC37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C6E-6B3D-40BF-AA2C-DED2B48B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84F-D50F-48F6-A09F-52C1879D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DCE-2880-4858-A374-96E1D3C4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52C-6F2F-49B5-950C-56A7354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090-D2B8-4D3F-93AE-76EB0BA6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225-183F-4793-BF18-D11A495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AC2-16B9-478B-9360-7361EA6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3A6-E9E1-4B8A-A561-4A9EEB1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AA6-6ACC-433D-BF08-6648CA0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307-7F6C-4D70-9078-90C5BC6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9C3-6FB7-4796-8EA4-1BDEA91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9E4D6-C0A0-4346-9D5D-0572C9ABB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