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81295"/>
        <c:axId val="38600977"/>
      </c:barChart>
      <c:catAx>
        <c:axId val="137812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00977"/>
        <c:crosses val="autoZero"/>
        <c:auto val="1"/>
        <c:lblAlgn val="ctr"/>
        <c:lblOffset val="100"/>
        <c:noMultiLvlLbl val="0"/>
      </c:catAx>
      <c:valAx>
        <c:axId val="38600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812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3632-B51A-4ACE-B2CC-15C88554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9F0A-552A-4DC0-B306-F3660F6F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56D0-774C-4955-B4C1-91A56F87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816-163F-4EFC-8147-F58BA393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9867-04F4-4CD6-BA9E-FBF47BDD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30C-1FF5-4B24-B75B-3C2DD272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EE7-5E0C-4B62-9726-CA7C3DFF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42CC-B406-4D25-9D2A-E1D14C8C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250-8316-452A-8D6A-1B834BC8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25C7-4F10-4637-B6FD-DA865198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75D8-5363-42A7-B61C-8C4AC559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4CE3-5356-4D08-A8FD-ADC252B6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D925E-00DF-456A-858A-2A8807B36A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