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55134"/>
        <c:axId val="37728040"/>
      </c:barChart>
      <c:catAx>
        <c:axId val="67155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28040"/>
        <c:crosses val="autoZero"/>
        <c:auto val="1"/>
        <c:lblAlgn val="ctr"/>
        <c:lblOffset val="100"/>
        <c:noMultiLvlLbl val="0"/>
      </c:catAx>
      <c:valAx>
        <c:axId val="37728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55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C0D-B968-467A-A38B-4C75E48A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055-6E91-4E68-B5A5-D44CA1C7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98E-BAB0-44BF-A798-545FB53C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8FE-C839-4D60-BF04-B1FC9FA2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E74-883B-4AD5-A022-A236E15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EA7-0CD5-46C9-980F-967D620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D0E-F013-4EA4-86DD-66E4C19A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468-23A8-4C09-93E4-11B9CA19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181-39EE-4D4F-BCB5-DA8D7796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5EA-6225-4080-9A97-01707258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D9A-0520-4C97-A2D6-D9396FB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BD3-16EF-4D2B-A8FD-D993E80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09A60-BA12-463F-83EA-F40ED7C2C9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