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33612"/>
        <c:axId val="56598870"/>
      </c:barChart>
      <c:catAx>
        <c:axId val="49033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98870"/>
        <c:crosses val="autoZero"/>
        <c:auto val="1"/>
        <c:lblAlgn val="ctr"/>
        <c:lblOffset val="100"/>
        <c:noMultiLvlLbl val="0"/>
      </c:catAx>
      <c:valAx>
        <c:axId val="56598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33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A17-36A1-479E-BC98-A037F51E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89F-E6C4-4CE2-93DB-05A3E2A8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822-0716-4B7D-94E8-B2A983B9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10C-2F41-41C3-BB2E-FC4FE442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481-FA27-429A-AD5F-0DA31C7A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F1E-7D80-4378-B5DD-E83D1E99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389-A746-44B0-9DD2-3D644DA6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57A-369F-45DD-956D-A3744D5B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C5B-DD11-473F-BC3C-9E4E4C85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5DD-8DAB-4A82-91E4-E741082E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75A-5367-4E93-9548-4C1149A1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420-DEA1-4EBA-8F44-78686EFB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11265-5349-425B-B5C6-EB749383AB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