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13513"/>
        <c:axId val="58566614"/>
      </c:barChart>
      <c:catAx>
        <c:axId val="51613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66614"/>
        <c:crosses val="autoZero"/>
        <c:auto val="1"/>
        <c:lblAlgn val="ctr"/>
        <c:lblOffset val="100"/>
        <c:noMultiLvlLbl val="0"/>
      </c:catAx>
      <c:valAx>
        <c:axId val="58566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13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22B-9BCA-44CA-9A2A-31C22216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AFF-68AC-4FD9-B77A-8ED75B1E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FF1-4BD0-44B9-B891-7830D5C5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FA0-40DD-496A-9FC0-0673A60F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7C5-3D92-418C-8752-FA316104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55D-844E-48B9-92D7-A89CB25B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DB5-1A6A-478F-BAB5-6E247975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8CC-5CB1-4FA3-9865-9AE7831C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ECD-807E-439B-A4E4-A77A454E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87F-788D-4055-8106-35808B07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F54-479E-4A6C-8C29-4FFE125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F74-580B-4604-9383-3AB22117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42890-60B7-4142-A0BF-ED4915B248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