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41593"/>
        <c:axId val="81383238"/>
      </c:barChart>
      <c:catAx>
        <c:axId val="362415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83238"/>
        <c:crosses val="autoZero"/>
        <c:auto val="1"/>
        <c:lblAlgn val="ctr"/>
        <c:lblOffset val="100"/>
        <c:noMultiLvlLbl val="0"/>
      </c:catAx>
      <c:valAx>
        <c:axId val="81383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415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E6A-9BB8-4E1F-97CA-812DDE8B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E75-26B8-40CE-9E52-94C841F4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BD9-A754-4B85-B44B-DFB3420F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FC6-FCA5-4670-8426-9077E5BA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B33-9F49-4DA0-9FDE-9C6ECD4B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80A4-E25E-4061-A1B6-F66865C1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103C-0895-4CE3-B3C5-53FD42D5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EDC0-5740-45BB-BCF8-1256C540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A307-CE49-4DC4-B139-8505D990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AB74-45A2-4BD0-B415-53F48D88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493-5C25-484D-BECA-1C648793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3AB4-49EE-41B7-A8AA-881D480F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FFA6F-C47C-4061-A896-4A2B6D850D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