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93763"/>
        <c:axId val="37648646"/>
      </c:barChart>
      <c:catAx>
        <c:axId val="47693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48646"/>
        <c:crosses val="autoZero"/>
        <c:auto val="1"/>
        <c:lblAlgn val="ctr"/>
        <c:lblOffset val="100"/>
        <c:noMultiLvlLbl val="0"/>
      </c:catAx>
      <c:valAx>
        <c:axId val="37648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93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72E-15F5-4B37-9489-6BF45D90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D31-FCF5-4515-AC1D-D2E07B82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99F-53F8-4788-8C03-65B54070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7F20-3E1D-46BB-97E6-D949094B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5C3-92C8-430B-91AF-3A4256C1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375-D35D-443A-9DB7-A21E9668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57C-8891-4DA4-AA0F-78214B95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6F1-BBDE-4DB0-BB64-00DC632A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A53-93AB-41AF-9CCB-0B0E6841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D89-77D5-4C31-BA8A-85C70FFC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91D-F76F-4623-BA19-7B78D6D9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183-03BA-468D-A651-69839471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B1C09-878E-4DCA-8C11-D7B9D2CCDE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