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3538"/>
        <c:axId val="1384018"/>
      </c:barChart>
      <c:catAx>
        <c:axId val="35133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4018"/>
        <c:crosses val="autoZero"/>
        <c:auto val="1"/>
        <c:lblAlgn val="ctr"/>
        <c:lblOffset val="100"/>
        <c:noMultiLvlLbl val="0"/>
      </c:catAx>
      <c:valAx>
        <c:axId val="1384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3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280-6FA5-498C-9459-299181CC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011-0624-484A-836D-64443337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F14-D287-4E1A-A987-C4A19CD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124-A39C-434D-86F0-DFC06E23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6F2-17AC-4F6A-8C19-F49741D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22B-7743-4DE9-8C1A-DF72D480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D59-F361-490E-A0CC-3E342F3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02C-D043-4D78-ADDD-3816ADA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B7A-2311-4FF6-B609-FD205BA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99F-FCCC-4A3C-BA97-29379CC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3D3-E72A-430B-8563-5DE4354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AC1-758C-4524-82FE-4A7D1E5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0161-0A99-4394-B01A-7A6EBF54C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