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427"/>
        <c:axId val="97268150"/>
      </c:barChart>
      <c:catAx>
        <c:axId val="8804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68150"/>
        <c:crosses val="autoZero"/>
        <c:auto val="1"/>
        <c:lblAlgn val="ctr"/>
        <c:lblOffset val="100"/>
        <c:noMultiLvlLbl val="0"/>
      </c:catAx>
      <c:valAx>
        <c:axId val="97268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305-E23D-4824-B20F-F162F14F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B83-CB0F-4CC7-AE4D-85D32AB8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99D-AC48-4439-B3FC-DBACBB0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D71-9E01-4FF0-B64A-93E5BE7A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383-D13A-40C3-9B9E-74CAC03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25D-087A-49A4-85CE-B8A0970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9F2-42B2-4119-BBE6-6C9A53B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240-3846-4161-AB30-779A61C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021-806F-4CBC-95DA-C17FA86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E9C-14E4-46F5-9FCC-C5CACE1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4A0-D400-4C36-8B55-10F4B40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661-DA56-4A81-81B9-A9FB96E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4CC7-69EB-48F2-9BA0-B9C2E05C8C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