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18525"/>
        <c:axId val="40780230"/>
      </c:barChart>
      <c:catAx>
        <c:axId val="26618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0230"/>
        <c:crosses val="autoZero"/>
        <c:auto val="1"/>
        <c:lblAlgn val="ctr"/>
        <c:lblOffset val="100"/>
        <c:noMultiLvlLbl val="0"/>
      </c:catAx>
      <c:valAx>
        <c:axId val="40780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8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BE8-102A-4D6D-B80B-C840E0C6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CEE-0B31-4A1E-BDEF-9C4F2656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A7F-162C-4E4D-BFD6-CA1E1EDC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81F-55B2-402A-A4A8-47E86AA7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69C-4B99-465E-9F0E-AEBDA91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CE0-6CAF-4FB6-9592-D9FA0D5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C10-C471-452F-90EB-1A7710DB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8E9-BE23-493D-B651-28562D69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6F1-0F89-4858-8E69-9CD39DB5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8EE-A76E-4284-8C03-76DB9AF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638-D189-4BFD-9809-E7E3A44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6C1-733A-4BB0-8AF8-6061B18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5A2C3-4BE9-4161-ACD7-3172D9283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