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125294"/>
        <c:axId val="23738928"/>
      </c:barChart>
      <c:catAx>
        <c:axId val="891252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738928"/>
        <c:crosses val="autoZero"/>
        <c:auto val="1"/>
        <c:lblAlgn val="ctr"/>
        <c:lblOffset val="100"/>
        <c:noMultiLvlLbl val="0"/>
      </c:catAx>
      <c:valAx>
        <c:axId val="237389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1252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E7B3-AC58-4D0D-A5EF-53E238F85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3828-D1C2-4491-A903-4167AFBFC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D853-B1E2-4BAD-B04C-BAE903535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D857-0B00-400A-8B72-142BD9E0C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DF22-5556-4930-90D7-8FE96FA79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537A-FBFC-430B-B50F-179DC1DA6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5C8A-4FF7-40A8-B98A-EC1508D00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ED3F-6C36-4AF8-A238-B935C0458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48AD-103A-47BD-8EB9-ACF9D07AD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070E-470D-4FA8-A566-A75421520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7857-5A09-448D-81E1-1F2C6B315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B3FB-1999-4A91-B9C1-F3A758A9E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9CF930-E0EE-4CD6-AC9D-85BB1460C47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